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8E2-3F3C-46F9-8047-D2F92272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514-E4BB-43CA-BE2B-47F9FBB6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317-FF52-4C96-9395-69D2EC95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3E6-2EAF-49CB-8E02-C6754465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DE8-7710-424E-8685-111D4E95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E1E-CC8D-49C2-B745-ADD62919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081-724C-4B32-B562-EE2FDB37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9EC-0AC4-45A0-BAEA-99DDC575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F29-D4AD-4D43-9F17-821736D6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453-412E-4974-81B5-13434384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A64-79D8-4CAD-BC32-C157FF7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ACD-5086-46F0-AF42-D89755D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F678-9FB7-4E25-AB40-E2AEB9B8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hyperlink" Target="http://bensguide.gpo.gov/3-5/state/southcarolina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426708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 Monday, September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80880" y="4267080"/>
            <a:ext cx="15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495680"/>
            <a:ext cx="266688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uth Carolina 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7/201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50stat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Nam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apital: Colu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4,012,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union: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ay 23, 17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Name: palmetto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Yellow Jes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Great Carolina w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To see nor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94480" y="0"/>
            <a:ext cx="1649520" cy="259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2068560" cy="217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3800" y="2590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s: In South Carolina they have a amethyst. Amethyst is a wonderful adorable purple gemstone in sou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4267080" cy="2431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4114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486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South Carolina: Map and State Flag"/>
          <p:cNvPicPr/>
          <p:nvPr/>
        </p:nvPicPr>
        <p:blipFill>
          <a:blip r:embed="rId1"/>
          <a:srcRect l="0" t="0" r="0" b="53736"/>
          <a:stretch/>
        </p:blipFill>
        <p:spPr>
          <a:xfrm>
            <a:off x="0" y="0"/>
            <a:ext cx="594360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South Carolina: Map and State Flag"/>
          <p:cNvPicPr/>
          <p:nvPr/>
        </p:nvPicPr>
        <p:blipFill>
          <a:blip r:embed="rId2"/>
          <a:srcRect l="1430" t="48784" r="7150" b="4077"/>
          <a:stretch/>
        </p:blipFill>
        <p:spPr>
          <a:xfrm>
            <a:off x="4267080" y="3048120"/>
            <a:ext cx="487692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0" y="36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105520"/>
            <a:ext cx="5105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South Carolin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2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southcaroli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594360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67280"/>
            <a:ext cx="3733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card from America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Capitol, Columbia, SC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23, 2010, http://www.postcardsfrom.com/t1/000320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94216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outh Carolina’s capital building. This is located in Columbia in South Caroli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477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696080" y="5790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© 2000 WriteLine. Palmetto"/>
          <p:cNvPicPr/>
          <p:nvPr/>
        </p:nvPicPr>
        <p:blipFill>
          <a:blip r:embed="rId2"/>
          <a:stretch/>
        </p:blipFill>
        <p:spPr>
          <a:xfrm>
            <a:off x="3809880" y="4667400"/>
            <a:ext cx="1847880" cy="219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867280" y="52578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5029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525780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 from America, Angel Oak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hns Is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C,9/23/2010, http://www.postcardsfrom.com/t1/00032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24280"/>
            <a:ext cx="2438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America, Palmetto,9/23/2010, http://www.postcardsfrom.com/stamp/stamp-s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49528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981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tree is 65 feet t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25780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almetto south Carolina’s nick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0Z</dcterms:created>
  <dc:creator>install</dc:creator>
  <dc:description/>
  <dc:language>en-US</dc:language>
  <cp:lastModifiedBy>install</cp:lastModifiedBy>
  <dcterms:modified xsi:type="dcterms:W3CDTF">2010-10-14T13:20:53Z</dcterms:modified>
  <cp:revision>14</cp:revision>
  <dc:subject/>
  <dc:title>Slide 1</dc:title>
</cp:coreProperties>
</file>